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A8E-14A8-405E-8384-F6AA4684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8EC-1314-41D9-88BD-54BFF397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E85-81F0-4088-BAD2-B06118A8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41B-E53A-4BBB-86B9-1103EE35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F908-3F18-4FB3-B404-7A9BA7E6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5A2D-0535-4FC0-AB22-6E566F0D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F91A-5414-4193-BBBE-5858048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BA02-2189-4612-A06B-923BEC48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FFCE-022B-43BB-894A-23CD5EB9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30E1-CB87-42DB-A3E7-3EAA7098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64CD-A82F-4721-B864-7D73C2B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8EAA-CBDF-43D9-9206-EECC9EBF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C76B-7501-4637-8733-54400CDC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02B3-00D9-4C76-B5DB-22774323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A99A-3540-481F-8C1B-BDF157E9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1201-BD31-46DC-86F8-16822477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1630-732A-49FE-948F-2AC0B105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CF6-599E-4500-817B-C4A855B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6CE-3678-4FE8-B8DC-162078E9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FD2-7D20-4078-AE18-5F3B8C17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BA8-007A-4A95-9FF5-278A9E07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2C87-D6E6-451C-B576-65C762C7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A71-A0C4-48D7-8E47-AA65A94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8A6-90A9-4183-AF2E-0B8C1683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061F-679C-46F8-9FF9-B7938D93B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F150-12BD-4C14-92D4-FE9B677C20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ин..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н..ро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трен..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в..лик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х..роши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ф..олетовый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511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св..рк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р..сов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66"/>
                </a:solidFill>
                <a:latin typeface="Arial Narrow"/>
              </a:rPr>
              <a:t>ж..лать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b7"/>
                </a:solidFill>
                <a:latin typeface="Times New Roman"/>
              </a:rPr>
              <a:t>Словарная работ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640" y="1484280"/>
            <a:ext cx="8785080" cy="367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иней       великий       сверк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народ     хороший      рисов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  </a:t>
            </a:r>
            <a:r>
              <a:rPr b="0" lang="ru-RU" sz="5400" spc="-1" strike="noStrike">
                <a:solidFill>
                  <a:srgbClr val="ffff66"/>
                </a:solidFill>
                <a:latin typeface="Arial Narrow"/>
              </a:rPr>
              <a:t>тренер   фиолетовый  жела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Narrow"/>
              </a:rPr>
              <a:t>Орфографическая минут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594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мить 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трёнку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ла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д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я м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ко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вь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ъ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обный гри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б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я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ё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ый гру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з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ут руч</a:t>
            </a:r>
            <a:r>
              <a:rPr b="0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ь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9:44:13Z</dcterms:created>
  <dc:creator>Admin</dc:creator>
  <dc:description/>
  <dc:language>en-US</dc:language>
  <cp:lastModifiedBy>Светлана</cp:lastModifiedBy>
  <dcterms:modified xsi:type="dcterms:W3CDTF">2012-03-19T05:35:34Z</dcterms:modified>
  <cp:revision>3</cp:revision>
  <dc:subject/>
  <dc:title>Словарная работа</dc:title>
</cp:coreProperties>
</file>